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632E9-1CE4-40A2-9D04-E3261236E9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58D44-CE89-4FD4-B796-235DAB0943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01C18-EF82-4E8C-93B2-F395F5A529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19CEF-BF69-41DF-8A1C-82D61D2E2D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5CEC0-D610-4A10-9290-31A9CE143D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BFA9C-3FB6-491F-A883-3344060349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35F48-C28B-4625-8B77-DFF328C771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DAFAE-642A-4BD1-9C34-55E2EAE5BF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6BC30-05CF-497E-9FFE-89916CDAF6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45CAC-2D15-49A5-A42F-0B93BC969B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E71B9-D5A1-4784-8DDA-9DD70413BE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049AD-EB81-40E3-94E6-DEEAC21903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B1221-8553-4E27-88D0-C498B0AF98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E6C2A-A877-4EF8-8B4F-1BA2EFE90C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90DD8-652E-4FA8-A5D9-7DF9F15EFF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47FE7-277C-46F5-864C-782DB17580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8EACF-7E6D-46D1-A6B5-92800F468E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88342-160C-4CBC-97C1-555662D167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29C20-565C-43E1-98A4-DE44162841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72878-F0B9-4FF4-A122-E8C9850DBB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3A915-643C-4AE2-883B-2AAF20818B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AC66E-EB97-42FC-B2B2-6D05A35C2B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DE638-4AFF-455C-87B6-F65DC6A910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E9FCC-229F-4366-9365-ECD99C8EBB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CBC71-8F3E-4F40-AB8A-6D6B745867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BFB3B-3B10-4FF2-BCCA-725D76938A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42A26-FCFF-419F-BCB6-A7FF4A9BB2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04AA3E-DBC7-4FB0-9D1C-7CFAD856C7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76A53-5D58-4174-A995-DE3D5A9CB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294737-3BFC-4A0B-816E-18799AFB57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A19A5-FB6B-4E35-BD0E-15182237B0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56C474-0DC3-4DA5-8802-8B0400191E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9676C8-BA72-4B41-8778-C2F596EE06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2ECFE9-2521-4F37-88AE-A6AA1CA723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A83A57-BBFC-469B-88F2-379512E54C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BDEEBC-FD78-4E79-9E21-2E0CBC562D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EF4CB1-2BBD-4488-B486-74BD52FB57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8B2323-818E-46E1-9595-47D3B2409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605A4-843D-4482-9DCD-EA65F29EA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D22D9A-6041-48E2-A31B-4FD9AFA6A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29A4B-FD49-4F1C-B8B1-A2521ADA8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A94EFF-3671-4E03-9DF4-8FA7AC3D15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F26D2D-AF16-4016-AD2C-D5F23DBB92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18F6AE-FB8F-49B9-9B5B-59EF00D91A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7CB6C-59C2-49E3-888E-1A53F98AD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B70B7-FDF6-4D61-A50E-C7B1E35E0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AD337-6C86-48C2-BA8B-70911C871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DE2BE-C0D6-4F2D-9ECA-5943A45B8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2DBC4-E900-4683-A14C-C867D281C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0250C-AAAD-486D-97EA-39551BAB4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89E72-DBAC-4BAA-84CD-620AF46C55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02D94-2675-49B3-A5E9-D9A28F14EF6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54D5F-A6A8-4267-9F97-CC70716A3329}"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RELATIONSHIPS</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KE INTO CONSIDERATION THE SUPERVISORS AND HOW THEY FUNCTION AS LEAD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OCIATE’S STYLES AND EXPECTATIONS CAN BE TAKEN INTO CONSIDERATION WHEN DEVELOPING STRATEGIES TO FIT THE ENVIRONME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GANIZATIONAL GOALS AND THE ORGANIZATION’S STYLE ARE IMPORTANT IN ACCOMPLISHING OBJECTIV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N’T FORGET OUTSIDE EXTERNAL VARIAB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ENERATION “G”</a:t>
            </a:r>
            <a:endParaRPr b="0" lang="en-US" sz="4200" spc="-1" strike="noStrike">
              <a:solidFill>
                <a:srgbClr val="006633"/>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REY GENERATION:  AGES 54 AND OLDER</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MONSTRATE CORE VALUES</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DICATION</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CRIFICE</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RD WORK</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FORMITY</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W AND ORDER</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PECT FOR AUTHORITY</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IENCE</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LAYED REWARD</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UTY BEFORE PLEASURE</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HERENCE TO RULES</a:t>
            </a:r>
            <a:endParaRPr b="0" lang="en-US" sz="2200" spc="-1" strike="noStrike">
              <a:solidFill>
                <a:srgbClr val="000000"/>
              </a:solidFill>
              <a:latin typeface="Arial"/>
            </a:endParaRPr>
          </a:p>
          <a:p>
            <a:pPr lvl="1" marL="6699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KE </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UNIFORMITY</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NGS ON A GRAND SCAL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VISION OF LAB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TRATEGIES FOR “G”</a:t>
            </a:r>
            <a:endParaRPr b="0" lang="en-US" sz="4200" spc="-1" strike="noStrike">
              <a:solidFill>
                <a:srgbClr val="006633"/>
              </a:solidFill>
              <a:latin typeface="Garamond"/>
            </a:endParaRPr>
          </a:p>
        </p:txBody>
      </p:sp>
      <p:sp>
        <p:nvSpPr>
          <p:cNvPr id="1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T DOWN AND DISCUSS EXPECTATION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 IS NOT AN ISSUE; ATTITUDE I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OK FOR WAYS TO CUT RED TAPE AND BUREAUCRAC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EEP UP WITH TECHNOLOG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ENERATION “B”</a:t>
            </a:r>
            <a:endParaRPr b="0" lang="en-US" sz="4200" spc="-1" strike="noStrike">
              <a:solidFill>
                <a:srgbClr val="006633"/>
              </a:solidFill>
              <a:latin typeface="Garamond"/>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ABY GENERATION:  AGES 35 TO 53</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URITY IS THE CRITICAL ISSUE</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CEIVED AS A GENERATION OF COMMITMENT </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LIEVES IN:</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OWTH</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ANSION</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ING STARS OF THE SHOW</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LLABORATIVE AND COOPERATIVE</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RSUE PERSONAL GRATIFICATION</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RIVE FOR HEALTH, OPTIMISM, WELLNESS, INVOLVEMENT AND PESONAL GROWTH</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YUPPIES” ARE THE FIRST HALF OF THE BABY BOOMERS AND TEND TO BE MORE IDEALISTIC, AMBITIOUS WITH A WORKAHOLIC NATURE DRIVING THEM IN WAYS TO SUCCEED IN WAYS THAT INCREASE STATUS, PRESTIGE, AND OPPORTUNITIES FOR CONTROL AND POW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LATTER PORTION OF BOOMERS ARE LESS MATERIALISTIC, SPEND MORE TIME WITH FAMILIES, AND ARE MORE CYNICAL ABOUT GOOD WORK HABITS AND POSITIVE MENTAL ATTITUDE WILL YIELD REWARD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22824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ENVIRONMENTAL VARIABLES</a:t>
            </a:r>
            <a:endParaRPr b="0" lang="en-US" sz="4600" spc="-1" strike="noStrike">
              <a:solidFill>
                <a:srgbClr val="006633"/>
              </a:solidFill>
              <a:latin typeface="Garamond"/>
            </a:endParaRPr>
          </a:p>
        </p:txBody>
      </p:sp>
      <p:sp>
        <p:nvSpPr>
          <p:cNvPr id="96" name="PlaceHolder 2"/>
          <p:cNvSpPr>
            <a:spLocks noGrp="1"/>
          </p:cNvSpPr>
          <p:nvPr>
            <p:ph type="subTitle"/>
          </p:nvPr>
        </p:nvSpPr>
        <p:spPr>
          <a:xfrm>
            <a:off x="1523880" y="4952520"/>
            <a:ext cx="6400800" cy="175284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7" name="Diagram 5"/>
          <p:cNvGrpSpPr/>
          <p:nvPr/>
        </p:nvGrpSpPr>
        <p:grpSpPr>
          <a:xfrm>
            <a:off x="2619360" y="1940040"/>
            <a:ext cx="3905280" cy="4271400"/>
            <a:chOff x="2619360" y="1940040"/>
            <a:chExt cx="3905280" cy="4271400"/>
          </a:xfrm>
        </p:grpSpPr>
        <p:sp>
          <p:nvSpPr>
            <p:cNvPr id="98" name="_s1028"/>
            <p:cNvSpPr/>
            <p:nvPr/>
          </p:nvSpPr>
          <p:spPr>
            <a:xfrm flipH="1" flipV="1">
              <a:off x="3632040" y="3540600"/>
              <a:ext cx="470160" cy="267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9" name="_s1029"/>
            <p:cNvSpPr/>
            <p:nvPr/>
          </p:nvSpPr>
          <p:spPr>
            <a:xfrm>
              <a:off x="2619360" y="2739240"/>
              <a:ext cx="1085760" cy="1068480"/>
            </a:xfrm>
            <a:prstGeom prst="ellipse">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UPERVISORS</a:t>
              </a:r>
              <a:endParaRPr b="0" lang="en-US" sz="1100" spc="-1" strike="noStrike">
                <a:solidFill>
                  <a:srgbClr val="000000"/>
                </a:solidFill>
                <a:latin typeface="Arial"/>
              </a:endParaRPr>
            </a:p>
          </p:txBody>
        </p:sp>
        <p:sp>
          <p:nvSpPr>
            <p:cNvPr id="100" name="_s1030"/>
            <p:cNvSpPr/>
            <p:nvPr/>
          </p:nvSpPr>
          <p:spPr>
            <a:xfrm flipH="1">
              <a:off x="3632040" y="4341960"/>
              <a:ext cx="470160" cy="266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01" name="_s1031"/>
            <p:cNvSpPr/>
            <p:nvPr/>
          </p:nvSpPr>
          <p:spPr>
            <a:xfrm>
              <a:off x="2619360" y="4341960"/>
              <a:ext cx="1085760" cy="1068120"/>
            </a:xfrm>
            <a:prstGeom prst="ellipse">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OB DEMANDS</a:t>
              </a:r>
              <a:endParaRPr b="0" lang="en-US" sz="1100" spc="-1" strike="noStrike">
                <a:solidFill>
                  <a:srgbClr val="000000"/>
                </a:solidFill>
                <a:latin typeface="Arial"/>
              </a:endParaRPr>
            </a:p>
          </p:txBody>
        </p:sp>
        <p:sp>
          <p:nvSpPr>
            <p:cNvPr id="102" name="_s1032"/>
            <p:cNvSpPr/>
            <p:nvPr/>
          </p:nvSpPr>
          <p:spPr>
            <a:xfrm>
              <a:off x="4572000" y="4609080"/>
              <a:ext cx="0" cy="533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03" name="_s1033"/>
            <p:cNvSpPr/>
            <p:nvPr/>
          </p:nvSpPr>
          <p:spPr>
            <a:xfrm>
              <a:off x="4029120" y="5143320"/>
              <a:ext cx="1085760" cy="1068120"/>
            </a:xfrm>
            <a:prstGeom prst="ellipse">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ITUATION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ARIABLES</a:t>
              </a:r>
              <a:endParaRPr b="0" lang="en-US" sz="1100" spc="-1" strike="noStrike">
                <a:solidFill>
                  <a:srgbClr val="000000"/>
                </a:solidFill>
                <a:latin typeface="Arial"/>
              </a:endParaRPr>
            </a:p>
          </p:txBody>
        </p:sp>
        <p:sp>
          <p:nvSpPr>
            <p:cNvPr id="104" name="_s1034"/>
            <p:cNvSpPr/>
            <p:nvPr/>
          </p:nvSpPr>
          <p:spPr>
            <a:xfrm>
              <a:off x="5041800" y="4341960"/>
              <a:ext cx="470160" cy="266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05" name="_s1035"/>
            <p:cNvSpPr/>
            <p:nvPr/>
          </p:nvSpPr>
          <p:spPr>
            <a:xfrm>
              <a:off x="5438880" y="4341960"/>
              <a:ext cx="1085760" cy="1068120"/>
            </a:xfrm>
            <a:prstGeom prst="ellipse">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LLOWERS</a:t>
              </a:r>
              <a:endParaRPr b="0" lang="en-US" sz="1100" spc="-1" strike="noStrike">
                <a:solidFill>
                  <a:srgbClr val="000000"/>
                </a:solidFill>
                <a:latin typeface="Arial"/>
              </a:endParaRPr>
            </a:p>
          </p:txBody>
        </p:sp>
        <p:sp>
          <p:nvSpPr>
            <p:cNvPr id="106" name="_s1036"/>
            <p:cNvSpPr/>
            <p:nvPr/>
          </p:nvSpPr>
          <p:spPr>
            <a:xfrm flipV="1">
              <a:off x="5041800" y="3542040"/>
              <a:ext cx="470160" cy="266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07" name="_s1037"/>
            <p:cNvSpPr/>
            <p:nvPr/>
          </p:nvSpPr>
          <p:spPr>
            <a:xfrm>
              <a:off x="5438880" y="2741040"/>
              <a:ext cx="1085760" cy="1068120"/>
            </a:xfrm>
            <a:prstGeom prst="ellipse">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SSOCIATES</a:t>
              </a:r>
              <a:endParaRPr b="0" lang="en-US" sz="1100" spc="-1" strike="noStrike">
                <a:solidFill>
                  <a:srgbClr val="000000"/>
                </a:solidFill>
                <a:latin typeface="Arial"/>
              </a:endParaRPr>
            </a:p>
          </p:txBody>
        </p:sp>
        <p:sp>
          <p:nvSpPr>
            <p:cNvPr id="108" name="_s1038"/>
            <p:cNvSpPr/>
            <p:nvPr/>
          </p:nvSpPr>
          <p:spPr>
            <a:xfrm flipV="1">
              <a:off x="4572000" y="3007800"/>
              <a:ext cx="0" cy="533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09" name="_s1039"/>
            <p:cNvSpPr/>
            <p:nvPr/>
          </p:nvSpPr>
          <p:spPr>
            <a:xfrm>
              <a:off x="4029120" y="1940040"/>
              <a:ext cx="1085760" cy="1068120"/>
            </a:xfrm>
            <a:prstGeom prst="ellipse">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RGANIZATION</a:t>
              </a:r>
              <a:endParaRPr b="0" lang="en-US" sz="1100" spc="-1" strike="noStrike">
                <a:solidFill>
                  <a:srgbClr val="000000"/>
                </a:solidFill>
                <a:latin typeface="Arial"/>
              </a:endParaRPr>
            </a:p>
          </p:txBody>
        </p:sp>
        <p:sp>
          <p:nvSpPr>
            <p:cNvPr id="110" name="_s1040"/>
            <p:cNvSpPr/>
            <p:nvPr/>
          </p:nvSpPr>
          <p:spPr>
            <a:xfrm>
              <a:off x="4029120" y="3542400"/>
              <a:ext cx="1085760" cy="1068120"/>
            </a:xfrm>
            <a:prstGeom prst="ellipse">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ER</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OOMERS WORRY ABOUT BEING REPLACED BY MANAGEME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TRATEGIES FOR “B”</a:t>
            </a:r>
            <a:endParaRPr b="0" lang="en-US" sz="4200" spc="-1" strike="noStrike">
              <a:solidFill>
                <a:srgbClr val="006633"/>
              </a:solidFill>
              <a:latin typeface="Garamond"/>
            </a:endParaRPr>
          </a:p>
        </p:txBody>
      </p:sp>
      <p:sp>
        <p:nvSpPr>
          <p:cNvPr id="1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T BOOMERS KNOW THEY ARE VALUED, RESPECTED, AND WILL BE GIVEN CREDIT FOR ACCOMPLISHMEN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LLENGE THESE INDIVIDUALS TO EXCE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Y ARE UNIQUE CONTRIBUTOR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IN IN STRATEGIC PLANNING, BUDGETING, AND COACHING SKILLS FOR PERSONAL GROWT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ENERATION “X”</a:t>
            </a:r>
            <a:endParaRPr b="0" lang="en-US" sz="4200" spc="-1" strike="noStrike">
              <a:solidFill>
                <a:srgbClr val="006633"/>
              </a:solidFill>
              <a:latin typeface="Garamond"/>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ers:  AGES 23 TO 34</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CKERS, BUSINESS PEOPLE, VOLUNTEERS, AND POLITICIANS THAT RUN THE COUNTRY</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B SATISFACTION IS IMPORTANT FACTOR</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ANTS THEIR WORK TO MATTER</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ANT WORK RELATIONSHIPS TO BE POSITIVE EXPERIENCE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SION IS VERY IMPORTAN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WANT TO CONTRIBUTE AND MAKE A DIFFEREN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NT FLEXIBLE HOUR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NT INDEPENDENCE</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UN AND HUMOR ARE INTEGRATED INTO WORK ENVIRONMENT</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SUAL DRESS IS THE STANDARD</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ILL WALK AWAY FROM JOBS IF NOT SATISFIED</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PPING THEIR SUPERVISORS IN TERMS OF TECHNOLOG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TRATEGIES FOR “X”</a:t>
            </a:r>
            <a:endParaRPr b="0" lang="en-US" sz="4200" spc="-1" strike="noStrike">
              <a:solidFill>
                <a:srgbClr val="006633"/>
              </a:solidFill>
              <a:latin typeface="Garamond"/>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VIDE JOB SHARING, CROSS TRAINING, FLEXIBLE SCHEDULING, RELAXED DRESS CODE</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NDUCT REGULAR STAFF MEETINGS AND INVOLVEMENT SESSIONS</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KNOW WHERE THEY ARE WEAK AND STRONG</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TRESS THAT QUALITY OF WORK IS MORE IMPORTANT THAT THE NUMBER OF YEARS OF EXPERIENCE</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VIDE FREEDOM TO GET THE JOB DONE</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REATE AVAILABILITY FOR TRAINING</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VIDE MULTIPLE RESOURCES AND MEDIA</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VIDE RESPONSIBILITY FOR SIMULTANEOUS TASKS AND PROJECT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ENERATION “Y”</a:t>
            </a:r>
            <a:endParaRPr b="0" lang="en-US" sz="4200" spc="-1" strike="noStrike">
              <a:solidFill>
                <a:srgbClr val="006633"/>
              </a:solidFill>
              <a:latin typeface="Garamond"/>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ES GENERATION:  AGES 12 TO 22</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EW UP WITHOUT STRONG NUCLEAR FAMIL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KNOWLEDGE AND TALK OPENLY ABOUT ADULT ISSU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VOCATES FOR THE ENVIRONM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EATER ACCEPTANCE OF MULTICULTURALISM</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TRATEGIES FOR “Y”</a:t>
            </a:r>
            <a:endParaRPr b="0" lang="en-US" sz="4200" spc="-1" strike="noStrike">
              <a:solidFill>
                <a:srgbClr val="006633"/>
              </a:solidFill>
              <a:latin typeface="Garamond"/>
            </a:endParaRPr>
          </a:p>
        </p:txBody>
      </p:sp>
      <p:sp>
        <p:nvSpPr>
          <p:cNvPr id="1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ND MORE TIME ORIENTING AND SUPERVISING THESE INDIVIDUAL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TABLISH MENTOR PROGRAM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ARE RESPECT FOR ENVIRONME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TYLE AND EXPECTATIONS</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YLE IS THE CONSTANT BEHAVIOR PATTERNS USED BY LEADERS WHEN THEY ARE WORKING THROUGH OTHER PEOPLE, AS PERCEIVED BY THOSE PEOPLE. STYLE IS INFLUENCED BY THE LEADER’S VALUE SYSTEM, CONFIDENCE IN THE EMPLOYEES, PERSONAL INCLINATIONS, AND FEELINGS OF SECURIT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ECTATIONS IS THE PERCEPTIONS OF APPROPRIATE BEHAVIOR FOR ONE’S OWN ROLE OR POSITION OR ONE’S PERCEPTION OF THE ROLES OF OTHERS WITHIN THE ORGANIZATION.  IF EXPECTATIONS ARE TO BE COMPATIBLE, IT IS IMPORTANT TO SHARE COMMON GOALS AND OBJECTIV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TRATEGIES TO DEAL WITH THE ENVIRONMENTAL VARIABLES</a:t>
            </a:r>
            <a:endParaRPr b="0" lang="en-US" sz="3800" spc="-1" strike="noStrike">
              <a:solidFill>
                <a:srgbClr val="006633"/>
              </a:solidFill>
              <a:latin typeface="Garamond"/>
            </a:endParaRPr>
          </a:p>
        </p:txBody>
      </p:sp>
      <p:sp>
        <p:nvSpPr>
          <p:cNvPr id="116" name="PlaceHolder 2"/>
          <p:cNvSpPr>
            <a:spLocks noGrp="1"/>
          </p:cNvSpPr>
          <p:nvPr>
            <p:ph/>
          </p:nvPr>
        </p:nvSpPr>
        <p:spPr>
          <a:xfrm>
            <a:off x="457200" y="2057400"/>
            <a:ext cx="8229600" cy="452592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 THE SITUATION THAT YOU ARE DEALING WIT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KE INTO CONSIDERATION WHAT TYPE OF ORGANIZATION YOU ARE WORKING FO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KE INTO CONSIDERATION WHAT TYPE OF SUPERVISORS YOU HAV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KE INTO CONSIDERATION WHAT STYLE OF LEADER YOU A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 THE FOLLOWERS THAT YOU ARE LEADING AND SEE WHAT LEADERSHIP STYLE BEST ACCOMMODATES THEM</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0T16:45:47Z</dcterms:created>
  <dc:creator>AEURY</dc:creator>
  <dc:description/>
  <dc:language>en-US</dc:language>
  <cp:lastModifiedBy>AEURY</cp:lastModifiedBy>
  <dcterms:modified xsi:type="dcterms:W3CDTF">2011-09-15T12:04:33Z</dcterms:modified>
  <cp:revision>5</cp:revision>
  <dc:subject/>
  <dc:title>RELATIONSHIPS</dc:title>
</cp:coreProperties>
</file>